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C5F5-8F2E-4199-90FE-EA6F66898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11E2-D81A-43CD-8C7A-1591F3895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C3198-2A0B-4253-B136-C1F4E33AF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886B-1CCD-4F61-B4C3-9E8E0228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7234-3B34-486A-ADAB-C1C2C41D6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49B98-67C5-4984-B24C-5AC1E6B2F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770C-B936-4D7A-9F02-79DC697C9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63419-931A-4B14-895F-7EAAE62C2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2223-46FE-431B-95E2-8B331F384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71BC0-F7C7-4AB5-AC36-F250133E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DAB3-08CB-41DA-A832-BB2C8C206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7CD5-90CE-4D53-AE75-C0206734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030BA-75BF-4F18-9D2F-8F1A38BB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9045-1481-4328-A79E-A36D61F09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1D57-889F-456E-B77D-55EF74E39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istory_of_slavery" TargetMode="External"/><Relationship Id="rId2" Type="http://schemas.openxmlformats.org/officeDocument/2006/relationships/hyperlink" Target="http://www.spartacus.schoolnet.co.uk/USASwhipping.htm" TargetMode="External"/><Relationship Id="rId3" Type="http://schemas.openxmlformats.org/officeDocument/2006/relationships/hyperlink" Target="http://www.spartacus.schoolnet.co.uk/USASfood.htm" TargetMode="External"/><Relationship Id="rId4" Type="http://schemas.openxmlformats.org/officeDocument/2006/relationships/hyperlink" Target="http://www.spartacus.schoolnet.co.uk/USASunderground.htm" TargetMode="External"/><Relationship Id="rId5" Type="http://schemas.openxmlformats.org/officeDocument/2006/relationships/hyperlink" Target="http://www.spartacus.schoolnet.co.uk/USASbreeding.htm" TargetMode="External"/><Relationship Id="rId6" Type="http://schemas.openxmlformats.org/officeDocument/2006/relationships/hyperlink" Target="http://www.zunal.com/myaccount/uploads/slavery-maryland.jpg" TargetMode="External"/><Relationship Id="rId7" Type="http://schemas.openxmlformats.org/officeDocument/2006/relationships/hyperlink" Target="http://www.nathanielturner.com/images/New_Folder/slavechildren2.jpg" TargetMode="External"/><Relationship Id="rId8" Type="http://schemas.openxmlformats.org/officeDocument/2006/relationships/hyperlink" Target="http://www.hartcottagequilts.com/dbands.jpg" TargetMode="External"/><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ric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3" descr="f_slavery_boy_map_africa[1].jpg"/>
          <p:cNvPicPr/>
          <p:nvPr/>
        </p:nvPicPr>
        <p:blipFill>
          <a:blip r:embed="rId1"/>
          <a:stretch/>
        </p:blipFill>
        <p:spPr>
          <a:xfrm>
            <a:off x="2057400" y="2209680"/>
            <a:ext cx="5686560" cy="37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tyl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lifestyles are very  different from American. So Americans used to have them be slaves. African life would be everyone shares, everyone eats, everyone has a ho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dernes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book was based on America, but African wilderness is bone dry in some spots. It is also moisterizingly wet in different spots.</a:t>
            </a:r>
            <a:endParaRPr b="0" lang="en-US" sz="2400" spc="-1" strike="noStrike">
              <a:solidFill>
                <a:srgbClr val="000000"/>
              </a:solidFill>
              <a:latin typeface="Calibri"/>
            </a:endParaRPr>
          </a:p>
        </p:txBody>
      </p:sp>
      <p:pic>
        <p:nvPicPr>
          <p:cNvPr id="55" name="Picture 3" descr="piketberg[1].jpg"/>
          <p:cNvPicPr/>
          <p:nvPr/>
        </p:nvPicPr>
        <p:blipFill>
          <a:blip r:embed="rId1"/>
          <a:stretch/>
        </p:blipFill>
        <p:spPr>
          <a:xfrm>
            <a:off x="4038480" y="3200400"/>
            <a:ext cx="3521160" cy="26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tton Gin</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tton gin is used to make wool pieces into cotton thread. Eli Whitney made the cotton gin. Many slave women used the cotton gin to produce cotton for the plantation, while the men would harvest the cotton from the fields.</a:t>
            </a:r>
            <a:endParaRPr b="0" lang="en-US" sz="2000" spc="-1" strike="noStrike">
              <a:solidFill>
                <a:srgbClr val="000000"/>
              </a:solidFill>
              <a:latin typeface="Calibri"/>
            </a:endParaRPr>
          </a:p>
        </p:txBody>
      </p:sp>
      <p:pic>
        <p:nvPicPr>
          <p:cNvPr id="58" name="Picture 6" descr="cotton_gin[1].jpg"/>
          <p:cNvPicPr/>
          <p:nvPr/>
        </p:nvPicPr>
        <p:blipFill>
          <a:blip r:embed="rId1"/>
          <a:stretch/>
        </p:blipFill>
        <p:spPr>
          <a:xfrm>
            <a:off x="4876920" y="3429000"/>
            <a:ext cx="297180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nishment</a:t>
            </a:r>
            <a:endParaRPr b="0" lang="en-US" sz="3600" spc="-1" strike="noStrike">
              <a:solidFill>
                <a:srgbClr val="000000"/>
              </a:solidFill>
              <a:latin typeface="Calibri"/>
            </a:endParaRPr>
          </a:p>
        </p:txBody>
      </p:sp>
      <p:pic>
        <p:nvPicPr>
          <p:cNvPr id="60" name="Picture 5" descr="http://www.zunal.com/myaccount/uploads/slavery-maryland.jpg"/>
          <p:cNvPicPr/>
          <p:nvPr/>
        </p:nvPicPr>
        <p:blipFill>
          <a:blip r:embed="rId1"/>
          <a:stretch/>
        </p:blipFill>
        <p:spPr>
          <a:xfrm>
            <a:off x="6172200" y="3429000"/>
            <a:ext cx="2809800" cy="3238560"/>
          </a:xfrm>
          <a:prstGeom prst="rect">
            <a:avLst/>
          </a:prstGeom>
          <a:ln w="0">
            <a:noFill/>
          </a:ln>
        </p:spPr>
      </p:pic>
      <p:sp>
        <p:nvSpPr>
          <p:cNvPr id="61" name="TextBox 4"/>
          <p:cNvSpPr/>
          <p:nvPr/>
        </p:nvSpPr>
        <p:spPr>
          <a:xfrm>
            <a:off x="838080" y="1523880"/>
            <a:ext cx="518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owners would hire overseers to watch and punish the slaves. Most of the time slaves would get lashed by a whip for misbehavior. The slave were under pressure of making their owners profits. Overseers could not get in legal trouble in court since a slave can not give a testimon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lothing and food</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aves weren’t give a lot. They were given almost nothing at all t were or eat. They would be given about two shirts a year, and one or two pairs of trousers. Some slaves would be given a bushel of corn and a couple pounds of meat per month.  Some more fortunate slaves would get some land to plant on for food.</a:t>
            </a:r>
            <a:endParaRPr b="0" lang="en-US" sz="2000" spc="-1" strike="noStrike">
              <a:solidFill>
                <a:srgbClr val="000000"/>
              </a:solidFill>
              <a:latin typeface="Calibri"/>
            </a:endParaRPr>
          </a:p>
        </p:txBody>
      </p:sp>
      <p:pic>
        <p:nvPicPr>
          <p:cNvPr id="64" name="Picture 3" descr="dbands[1].jpg"/>
          <p:cNvPicPr/>
          <p:nvPr/>
        </p:nvPicPr>
        <p:blipFill>
          <a:blip r:embed="rId1"/>
          <a:stretch/>
        </p:blipFill>
        <p:spPr>
          <a:xfrm>
            <a:off x="1676520" y="3505320"/>
            <a:ext cx="5572080" cy="29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lave Breeding</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ave death rate was very high some slave owners had to get more some how. The slave owners encouraged slaves to reproduce. Some owners promised slave women their freedom after they had 15 children. One slave trader form Virginia boasted that he sold 6,000 slaves a year because of his conditions.</a:t>
            </a:r>
            <a:endParaRPr b="0" lang="en-US" sz="2000" spc="-1" strike="noStrike">
              <a:solidFill>
                <a:srgbClr val="000000"/>
              </a:solidFill>
              <a:latin typeface="Calibri"/>
            </a:endParaRPr>
          </a:p>
        </p:txBody>
      </p:sp>
      <p:pic>
        <p:nvPicPr>
          <p:cNvPr id="67" name="Picture 3" descr="slavechildren2[1].jpg"/>
          <p:cNvPicPr/>
          <p:nvPr/>
        </p:nvPicPr>
        <p:blipFill>
          <a:blip r:embed="rId1"/>
          <a:stretch/>
        </p:blipFill>
        <p:spPr>
          <a:xfrm>
            <a:off x="4343400" y="3429000"/>
            <a:ext cx="2298600" cy="31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nderground Railroad</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derground railroad was a system of houses or stations which slaves hid. Slaves were also given money and food at the stations. Over 50,000 slaves escaped from the south using the underground railroad.  One of the most famous conductors was Harriet Tubman. She alone helped lead 300 slaves over 12 trips on the underground railroad.</a:t>
            </a:r>
            <a:endParaRPr b="0" lang="en-US" sz="2000" spc="-1" strike="noStrike">
              <a:solidFill>
                <a:srgbClr val="000000"/>
              </a:solidFill>
              <a:latin typeface="Calibri"/>
            </a:endParaRPr>
          </a:p>
        </p:txBody>
      </p:sp>
      <p:pic>
        <p:nvPicPr>
          <p:cNvPr id="70" name="Picture 3" descr="1099[1].jpg"/>
          <p:cNvPicPr/>
          <p:nvPr/>
        </p:nvPicPr>
        <p:blipFill>
          <a:blip r:embed="rId1"/>
          <a:stretch/>
        </p:blipFill>
        <p:spPr>
          <a:xfrm>
            <a:off x="5486400" y="3581280"/>
            <a:ext cx="231768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en.wikipedia.org/wiki/History_of_slaver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www.spartacus.schoolnet.co.uk/USASwhipping.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www.spartacus.schoolnet.co.uk/USASfood.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www.spartacus.schoolnet.co.uk/USASunderground.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www.spartacus.schoolnet.co.uk/USASbreeding.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www.zunal.com/myaccount/uploads/slavery-maryland.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www.nathanielturner.com/images/New_Folder/slavechildren2.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ttp://www.hartcottagequilts.com/dbands.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jaunted.com/files/12238/piketberg.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statesymbolsusa.org/IMAGES/Texas/cotton_gin.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britsattheirbest.com/images/f_slavery_boy_map_africa.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ohiohistorycentral.org/images/1099.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1:39:18Z</dcterms:created>
  <dc:creator>Information Systems</dc:creator>
  <dc:description/>
  <dc:language>en-US</dc:language>
  <cp:lastModifiedBy>JSEAQUIS</cp:lastModifiedBy>
  <dcterms:modified xsi:type="dcterms:W3CDTF">2010-11-08T21:06:14Z</dcterms:modified>
  <cp:revision>4</cp:revision>
  <dc:subject/>
  <dc:title>Africa</dc:title>
</cp:coreProperties>
</file>